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C8E-2C14-41B9-8176-18862B88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BB6-A654-45FF-84C0-F9466B7B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C71-B2B2-41D3-BBC8-AF57D771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6B9-F502-4880-9DCB-C2659C8A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A7EA-9208-4018-8F64-7BC376EA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553B-F535-47EA-8743-3159EF5C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EB4B-2F88-4E0F-A084-5EF3117A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1436-032D-4B88-85FD-C921583C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645D-0E1C-4FEA-BD65-673DA7B5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9B1A-920B-4941-AB45-3ABCBC6F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9B34-B0CB-4492-88B8-8610F566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DC6-6E50-490A-A459-B403706A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57F6-521C-4F32-93BE-FF66AAB8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4960-5C75-4AE6-99C3-A22BBA37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271A-5E75-4CDA-B7BE-B98E86E1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B3AE-DE30-4E78-9411-A616C674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939D-4164-4656-9559-ED4999D2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4FA-63FD-4574-BE7D-5BEC12DC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7E5-2193-43B6-A11E-0145FE2A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841-5F0E-4444-930D-C67FFB40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F78-3594-4C63-AB40-91DEB5EA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E36-DBBB-403B-9D78-39947304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A3E-F3F0-4C83-98EE-CCD05B99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31C-A199-4254-ADB1-48FAAFB4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CC93-D754-4955-AAC7-560FA06E90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2C6E-7C47-429A-9910-B30D825D6C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Operációs Rendszerek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Folyamatok környeze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nnek tartalmaznia kell a folyamatok leírásához szükséges összes információ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észe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elhasználói címté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zérlési információk (u-tér, proc struktú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itelesítők (uid, gi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rnyzetváltozó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ardverkörnyez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zérlő információ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Tahoma"/>
              </a:rPr>
              <a:t>U-terül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ardverkörnyez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utató a folyamattábla bejegyzés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Valós és tényleges UID, G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Visszaadott érték, hibaérték az aktuális rendszerhívásbó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Jelzéskezelő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CPU használati statisztikák, erőforrás-kor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Tahoma"/>
              </a:rPr>
              <a:t>Proc struktú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unkamenet azonosító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ernel címleképezési térkép az u-területhe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utatók az ütemezési sorokba (alvó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utatók az aktív, szabad ill. zombi folyamat sorok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ierarchia információ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Ütemezési információk és prioritás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emóriakezelési információ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557360"/>
            <a:ext cx="3827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yamatok létrehozás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rk rendszerhívá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eladata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áttértár terület foglalá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ID generál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roc struktúra foglalás és inicializál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Osztottan használt kódtartomány megfelelő kezelé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ardverkörnyezet inicializálása (szülőtő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olyamat futásra késszé tét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yamatok befejezé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xit rendszerhívás. (vagy a folyamat, vagy az operációs rendszer hívja me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eladata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yitott állományok lezár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erőforrás használati statisztikák és a kilépési státusz elmenté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címtér, a foglalt területek, a háttértár terület felszabadít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szülö felébresztése amennyiben az alsz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Átlépés zombi állapot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Ütemezé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övetelménye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acsony válaszid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gy átbocsátóképessé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heztetés elkerülé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ndszer terhelését figyelembevevő ütemez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elhasználónak legyen lehetősége a folyamatok futási esélyeinek befolyásolásá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elhasználói módb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gszakíthat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áltozó prioritású folyama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zonos prioritású folyamatok esetés FCFS, R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Kernel módb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em megszakíthat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Rögzített prioritású folyama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oritások meghatározás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Kernel módb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tatik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em függ a CPU-használattó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lvási priorit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Felhasználói módb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gy adott pillanatban két dolog határozza meg:NICE-szám, CPU-használ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efolyásoló paraméter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_p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_usrp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_cp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_n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179280" y="404640"/>
          <a:ext cx="8785440" cy="6120000"/>
        </p:xfrm>
        <a:graphic>
          <a:graphicData uri="http://schemas.openxmlformats.org/drawingml/2006/table">
            <a:tbl>
              <a:tblPr/>
              <a:tblGrid>
                <a:gridCol w="2855880"/>
                <a:gridCol w="3000600"/>
                <a:gridCol w="2928960"/>
              </a:tblGrid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tó folyam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den folyam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den óramegszakítá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_cpu:=p_cpu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gvizsgálja, van-e a futónál magasabb prioritású folyamat, ha van, újraüteme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den 10. óramegszakítá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und-Robin algoritm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den 100. Óramegszakítá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3c145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rrekciós faktor újraszámítá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3c145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_cpu=p_cpu*K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3c145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_usrpri=P_USER+p_cpu/4+2*p_n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z ütemezés értékelé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m méretezhető megfelelő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m lehet fix válaszidőt garantál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kernel feltarthatja az egész rendsz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nice szám nem elég hatá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örnyezetváltás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m preemtív esetb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leep rendszerhívás. utá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xit rendszerhívás. utá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reemtív esetb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100. óraciklusban (lehetség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10. óraciklusban (lehetség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örténe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960-as évek vége – Bell Labs, General Electric, MIT közös projekt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969 – Ken Thompson – „Űrutazás”-játé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971 – Első Unix-publikáció (K. Thompson és Dennis Ritchi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ngyenes terjeszt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974 – kaliforniai Berkeley Egye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SD Berkeley Software Distrib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1258920" y="573408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yamatok közötti kommunikáció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özösen használt tárterüle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Üzenetváltással – kommunikációs csatornán keresztü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lzés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ővezeték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yamat nyomkövet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Állományrendszere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okál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ávo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FS fájlrends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ystem V (s5f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erkeley Fast (FF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5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gikai szerkeze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971640" y="2781360"/>
            <a:ext cx="1736640" cy="431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oot blo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00360" y="2781360"/>
            <a:ext cx="1942920" cy="431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zuper blo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72360" y="2781360"/>
            <a:ext cx="2016000" cy="431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t blokk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781360"/>
            <a:ext cx="1738440" cy="431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ode blo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szuperblokk szerkeze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állományrendszer mér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abad blokkok szá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abad blokkok listá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övetkező szabad blokk index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inode lista mér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szabad inode-ok szá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node 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övetkező szabad inode index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ódosítás jelzőb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node li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artalmaz egy típus mezőt: 0, ha szab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abad inode-ok listája </a:t>
            </a:r>
            <a:r>
              <a:rPr b="0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szuper blokkon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elü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zabad lemezblokkok listá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zabad lemezblokkokat adminisztrálni ke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zuperblokk tartalmaz egy szaba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kklistát (rögzített méret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no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izikai állományhoz tartozó azonosít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talmaz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lajdonos azonosítót (UID, GI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z állomány típusá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Állomány-hozzáférési jogosultságok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őcímké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kek számá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ímtáblá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állományméret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n-core ino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talmaz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átusz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rszám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tatóka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vatkozásszámláló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guláris állományok szerkezet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UNIX az indexelt allokáció egy speciális formáját alkalmazza az állományokhoz tartozó adatblokkok lefoglalásak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Állománykezelé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lyamatonkénti állományleíró táb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Globális állománytáb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node tábla (in-core inod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abványosítási kísérlete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T&amp;T – System V Interface Definition (SVI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EEE – Pos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X/Open – X/Open Portability Gu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PC és hálózati kommunikációs eszközö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ernelváltoztatások több processzor eseté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Állományok és könyvtára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4427640" y="1484280"/>
            <a:ext cx="934920" cy="5047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67280" y="3716280"/>
            <a:ext cx="934920" cy="5047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f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916360" y="3716280"/>
            <a:ext cx="934920" cy="5047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d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2492280"/>
            <a:ext cx="934920" cy="5050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b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48000" y="2492280"/>
            <a:ext cx="934920" cy="5050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d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580000" y="2492280"/>
            <a:ext cx="935280" cy="5050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51640" y="2492280"/>
            <a:ext cx="935280" cy="5050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948360" y="3716280"/>
            <a:ext cx="935280" cy="5047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b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209080" y="3716280"/>
            <a:ext cx="934920" cy="5047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laj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4360" y="3716280"/>
            <a:ext cx="43164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c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6360" y="3716280"/>
            <a:ext cx="43164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m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24000" y="3716280"/>
            <a:ext cx="43200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12000" y="3789360"/>
            <a:ext cx="86508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passw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92720" y="3789360"/>
            <a:ext cx="64764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h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941720"/>
            <a:ext cx="43164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08360" y="4941720"/>
            <a:ext cx="432000" cy="36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16720" y="4941720"/>
            <a:ext cx="647640" cy="3589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j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124000" y="1989000"/>
            <a:ext cx="273528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851280" y="1989000"/>
            <a:ext cx="1008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859280" y="1989000"/>
            <a:ext cx="108108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1989000"/>
            <a:ext cx="30258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900000" y="2997360"/>
            <a:ext cx="93528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92000" y="2997360"/>
            <a:ext cx="14292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35280" y="2997360"/>
            <a:ext cx="50472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419280" y="2997360"/>
            <a:ext cx="36036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780000" y="2997360"/>
            <a:ext cx="72072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51280" y="2997360"/>
            <a:ext cx="36036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12000" y="2997360"/>
            <a:ext cx="36036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380360" y="2997360"/>
            <a:ext cx="50472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885080" y="2997360"/>
            <a:ext cx="71928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924000" y="4221000"/>
            <a:ext cx="6476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6877080" y="4221000"/>
            <a:ext cx="5032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Jogosultság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inden fájl (ide tartozik a könyvtár is) rendelkezik az -rwxrwxrwx jelekke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első karakt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zönséges fáj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nyvtá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i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imbolikus li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arakteres készülékmeghajt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blokkos készülékmeghajt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Jogosultságok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042920" y="1700280"/>
          <a:ext cx="7057800" cy="3743640"/>
        </p:xfrm>
        <a:graphic>
          <a:graphicData uri="http://schemas.openxmlformats.org/drawingml/2006/table">
            <a:tbl>
              <a:tblPr/>
              <a:tblGrid>
                <a:gridCol w="1186920"/>
                <a:gridCol w="5870880"/>
              </a:tblGrid>
              <a:tr h="93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wxr-xr-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ámomra minden, más mindenkinek olvasás, futtatá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wxr-x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ámomra minden, csoportomnak olvasás, futtatás, másnak semm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wsr-xr-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ámomra minden, más mindenkinek olvasás, futtatás+ user-id b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wSr--r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ámomra olv., írás, más mindenkinek olvasás+ user-id b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ahoma"/>
              </a:rPr>
              <a:t>Néhány UNIX-parancs</a:t>
            </a: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pwd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print working directory) Megadja az aktuális katalógus nevé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ls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[fájlok]; Könyvtárak tartalmát jeleníti meg, vagy megadott fájlokat listá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at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[fájlok]; állomány megjelenítése a képernyő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rm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(remove) [kapcsoló] [név]: állományt törö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ahoma"/>
              </a:rPr>
              <a:t>Néhány UNIX-paran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d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change directory) [elérési út]: mozgás az állományrendszer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mkdir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make directory) [kapcs] [név]: könyvtárat hoz lét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rmdir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remove directory) [kapcsoló] [név]: létező könyvtár törl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ahoma"/>
              </a:rPr>
              <a:t>Néhány UNIX-paran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hmod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jogosultságok fájlok; A megadott fájlok jogosultságait módosít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hown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tulajdonos [.csoport] fájlok; A megadott fájlok tulajdonosát, és ha megadják, csoportját módosít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hgrp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csoportfájlok; A fájlok csoporttagságát módosítja. Ezt a parancsot a rendszer adminisztrátora vagy a megadott fájlok tulajdonosa hajthatja vég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ahoma"/>
              </a:rPr>
              <a:t>Néhány UNIX-paran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p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file1 file2--vagy [kapcsolók] file-ok könyvtár; File-ok másolására használható, ha a célfile már létezik, felülír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diff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file1 file2; Két file-t vagy két könyvtárban lévő állományokat hasonlít össz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ahoma"/>
              </a:rPr>
              <a:t>Néhány UNIX-paran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ln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kapcsolók] útnév cél_útnév; Csatolást hoz létre (linket). Kapcsolók nélkül ez hard-link, vagyis szoros kapcsolat. Ha másik állományrendszerre szeretnénk linkelni, vagy laza kapcsolattal (soft-link), akkor a -s kapcsolót kell használn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35 éves fejlődést az hardvertechnológiák eltérő fejlődési sebessége is nagy mértékben befolyásol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távolodott az „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 kicsi szé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filozófiátó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lső szerkez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hagyományos Unix felépítésében keveredik a réteges ill. blokkos szerkez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modern UNIX-ok egyre inkább a blokkos szerkezet felé közeledn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yamatkezelé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1187280" y="3500280"/>
            <a:ext cx="863640" cy="8654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340000" y="3500280"/>
            <a:ext cx="863640" cy="8654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64000" y="3500280"/>
            <a:ext cx="863640" cy="8654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3500280"/>
            <a:ext cx="863640" cy="8654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19640" y="28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01800" y="3672000"/>
            <a:ext cx="112680" cy="614160"/>
          </a:xfrm>
          <a:custGeom>
            <a:avLst/>
            <a:gdLst/>
            <a:ahLst/>
            <a:rect l="l" t="t" r="r" b="b"/>
            <a:pathLst>
              <a:path w="71" h="387">
                <a:moveTo>
                  <a:pt x="44" y="0"/>
                </a:moveTo>
                <a:cubicBezTo>
                  <a:pt x="30" y="42"/>
                  <a:pt x="58" y="59"/>
                  <a:pt x="35" y="99"/>
                </a:cubicBezTo>
                <a:cubicBezTo>
                  <a:pt x="30" y="108"/>
                  <a:pt x="17" y="111"/>
                  <a:pt x="8" y="117"/>
                </a:cubicBezTo>
                <a:cubicBezTo>
                  <a:pt x="28" y="176"/>
                  <a:pt x="0" y="118"/>
                  <a:pt x="44" y="153"/>
                </a:cubicBezTo>
                <a:cubicBezTo>
                  <a:pt x="52" y="160"/>
                  <a:pt x="56" y="171"/>
                  <a:pt x="62" y="180"/>
                </a:cubicBezTo>
                <a:cubicBezTo>
                  <a:pt x="54" y="188"/>
                  <a:pt x="20" y="219"/>
                  <a:pt x="17" y="234"/>
                </a:cubicBezTo>
                <a:cubicBezTo>
                  <a:pt x="12" y="267"/>
                  <a:pt x="47" y="289"/>
                  <a:pt x="71" y="297"/>
                </a:cubicBezTo>
                <a:cubicBezTo>
                  <a:pt x="43" y="304"/>
                  <a:pt x="26" y="297"/>
                  <a:pt x="26" y="333"/>
                </a:cubicBezTo>
                <a:cubicBezTo>
                  <a:pt x="26" y="353"/>
                  <a:pt x="53" y="387"/>
                  <a:pt x="53" y="38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59280" y="3686040"/>
            <a:ext cx="128520" cy="600120"/>
          </a:xfrm>
          <a:custGeom>
            <a:avLst/>
            <a:gdLst/>
            <a:ahLst/>
            <a:rect l="l" t="t" r="r" b="b"/>
            <a:pathLst>
              <a:path w="81" h="378">
                <a:moveTo>
                  <a:pt x="17" y="0"/>
                </a:moveTo>
                <a:cubicBezTo>
                  <a:pt x="81" y="21"/>
                  <a:pt x="65" y="45"/>
                  <a:pt x="35" y="90"/>
                </a:cubicBezTo>
                <a:cubicBezTo>
                  <a:pt x="49" y="133"/>
                  <a:pt x="39" y="149"/>
                  <a:pt x="8" y="180"/>
                </a:cubicBezTo>
                <a:cubicBezTo>
                  <a:pt x="28" y="239"/>
                  <a:pt x="0" y="181"/>
                  <a:pt x="44" y="216"/>
                </a:cubicBezTo>
                <a:cubicBezTo>
                  <a:pt x="52" y="223"/>
                  <a:pt x="56" y="234"/>
                  <a:pt x="62" y="243"/>
                </a:cubicBezTo>
                <a:cubicBezTo>
                  <a:pt x="21" y="270"/>
                  <a:pt x="16" y="273"/>
                  <a:pt x="44" y="315"/>
                </a:cubicBezTo>
                <a:cubicBezTo>
                  <a:pt x="25" y="372"/>
                  <a:pt x="26" y="350"/>
                  <a:pt x="26" y="3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71760" y="3672000"/>
            <a:ext cx="85680" cy="614160"/>
          </a:xfrm>
          <a:custGeom>
            <a:avLst/>
            <a:gdLst/>
            <a:ahLst/>
            <a:rect l="l" t="t" r="r" b="b"/>
            <a:pathLst>
              <a:path w="54" h="387">
                <a:moveTo>
                  <a:pt x="0" y="0"/>
                </a:moveTo>
                <a:cubicBezTo>
                  <a:pt x="3" y="9"/>
                  <a:pt x="2" y="20"/>
                  <a:pt x="9" y="27"/>
                </a:cubicBezTo>
                <a:cubicBezTo>
                  <a:pt x="16" y="34"/>
                  <a:pt x="35" y="27"/>
                  <a:pt x="36" y="36"/>
                </a:cubicBezTo>
                <a:cubicBezTo>
                  <a:pt x="39" y="55"/>
                  <a:pt x="18" y="90"/>
                  <a:pt x="18" y="90"/>
                </a:cubicBezTo>
                <a:cubicBezTo>
                  <a:pt x="37" y="147"/>
                  <a:pt x="54" y="153"/>
                  <a:pt x="0" y="189"/>
                </a:cubicBezTo>
                <a:cubicBezTo>
                  <a:pt x="31" y="235"/>
                  <a:pt x="31" y="259"/>
                  <a:pt x="0" y="306"/>
                </a:cubicBezTo>
                <a:cubicBezTo>
                  <a:pt x="40" y="346"/>
                  <a:pt x="27" y="320"/>
                  <a:pt x="27" y="38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86680" y="3743280"/>
            <a:ext cx="96480" cy="542880"/>
          </a:xfrm>
          <a:custGeom>
            <a:avLst/>
            <a:gdLst/>
            <a:ahLst/>
            <a:rect l="l" t="t" r="r" b="b"/>
            <a:pathLst>
              <a:path w="61" h="342">
                <a:moveTo>
                  <a:pt x="0" y="0"/>
                </a:moveTo>
                <a:cubicBezTo>
                  <a:pt x="44" y="29"/>
                  <a:pt x="27" y="32"/>
                  <a:pt x="0" y="72"/>
                </a:cubicBezTo>
                <a:cubicBezTo>
                  <a:pt x="41" y="99"/>
                  <a:pt x="61" y="142"/>
                  <a:pt x="0" y="162"/>
                </a:cubicBezTo>
                <a:cubicBezTo>
                  <a:pt x="16" y="209"/>
                  <a:pt x="31" y="199"/>
                  <a:pt x="18" y="252"/>
                </a:cubicBezTo>
                <a:cubicBezTo>
                  <a:pt x="37" y="310"/>
                  <a:pt x="50" y="301"/>
                  <a:pt x="9" y="34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16720" y="3645000"/>
            <a:ext cx="96840" cy="542880"/>
          </a:xfrm>
          <a:custGeom>
            <a:avLst/>
            <a:gdLst/>
            <a:ahLst/>
            <a:rect l="l" t="t" r="r" b="b"/>
            <a:pathLst>
              <a:path w="61" h="342">
                <a:moveTo>
                  <a:pt x="0" y="0"/>
                </a:moveTo>
                <a:cubicBezTo>
                  <a:pt x="44" y="29"/>
                  <a:pt x="27" y="32"/>
                  <a:pt x="0" y="72"/>
                </a:cubicBezTo>
                <a:cubicBezTo>
                  <a:pt x="41" y="99"/>
                  <a:pt x="61" y="142"/>
                  <a:pt x="0" y="162"/>
                </a:cubicBezTo>
                <a:cubicBezTo>
                  <a:pt x="16" y="209"/>
                  <a:pt x="31" y="199"/>
                  <a:pt x="18" y="252"/>
                </a:cubicBezTo>
                <a:cubicBezTo>
                  <a:pt x="37" y="310"/>
                  <a:pt x="50" y="301"/>
                  <a:pt x="9" y="34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59640" y="3716280"/>
            <a:ext cx="96840" cy="542880"/>
          </a:xfrm>
          <a:custGeom>
            <a:avLst/>
            <a:gdLst/>
            <a:ahLst/>
            <a:rect l="l" t="t" r="r" b="b"/>
            <a:pathLst>
              <a:path w="61" h="342">
                <a:moveTo>
                  <a:pt x="0" y="0"/>
                </a:moveTo>
                <a:cubicBezTo>
                  <a:pt x="44" y="29"/>
                  <a:pt x="27" y="32"/>
                  <a:pt x="0" y="72"/>
                </a:cubicBezTo>
                <a:cubicBezTo>
                  <a:pt x="41" y="99"/>
                  <a:pt x="61" y="142"/>
                  <a:pt x="0" y="162"/>
                </a:cubicBezTo>
                <a:cubicBezTo>
                  <a:pt x="16" y="209"/>
                  <a:pt x="31" y="199"/>
                  <a:pt x="18" y="252"/>
                </a:cubicBezTo>
                <a:cubicBezTo>
                  <a:pt x="37" y="310"/>
                  <a:pt x="50" y="301"/>
                  <a:pt x="9" y="34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0000" y="5013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folyamat egyetlen utasítássorozatot hajt végre, egy címtér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24360" y="4941720"/>
            <a:ext cx="25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gy folyamaton belül egyszerre több szálon futhat végrehajtás, több vezérlési pont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égrehajtási mód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rivilegizált kernel mód – felügyelt mó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elhasználói mó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égrehajtási környez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yamat környez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dszerkörnyez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lyamatok állapotai és állapotráfj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UNIX folyamatai jól definiált hierarchiát alkotn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den pillanatban egy jól meghatározható állapotban vann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07:43:01Z</dcterms:created>
  <dc:creator>Nagymáté Péter</dc:creator>
  <dc:description/>
  <dc:language>en-US</dc:language>
  <cp:lastModifiedBy>Nagymáté Péter</cp:lastModifiedBy>
  <dcterms:modified xsi:type="dcterms:W3CDTF">2004-06-03T07:57:50Z</dcterms:modified>
  <cp:revision>4</cp:revision>
  <dc:subject/>
  <dc:title>Operációs Rendszerek</dc:title>
</cp:coreProperties>
</file>